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CCE-6019-4755-BE09-07B18A9F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A72-8405-4A9F-8155-D5B1455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AF3-4E54-42AD-8EDF-8F3D957E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D06-3085-4518-91C5-C5D699E9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828C-18B6-40B4-B614-BDC2F67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7E3-DABF-40A3-B88E-BA617CBC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50D-89F1-442C-9285-FB5E6345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598-ED6B-4242-9DD4-18131FDD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558-F622-486A-884F-EE4F7A3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67BF-2D97-42F1-8FF2-41037C7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CEB-35FE-4295-AA85-6B86474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E0F-91DD-4D25-8BC2-DE723297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144-E319-4AC8-90AF-BDA5C24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9074-41FF-476D-BF20-1627F36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E568-4964-475C-865F-0F1C885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247E-D2C4-4191-BB08-C3F7E23A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1C5-8CEC-4C32-A21C-E5CA4DE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BF6B-A365-45AF-9B93-CDA32FDD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645B-8B1E-4E73-A445-7D9CD698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9FA0-6311-4F37-AF83-521904BF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8CE7-8E7A-4BC4-B8A1-CF18A1A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FDBF-9ADB-4533-A93C-9B88DC4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735-DFFA-4DA5-AD9E-E433868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5135-7B26-4C1A-AE0A-4648ADCA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0D83-3C63-44D2-A3CA-BF74197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57F5-41CF-4DB3-AC1D-1E2291CB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4E37-7A93-4D81-8B36-887263D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B02D-282D-4684-A385-7601823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7FE4-E800-441B-8D2E-79C87492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A260-F731-4662-B342-20012F50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373B-2B19-4ADD-85E3-80BEAB6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51A31-688E-426B-9E77-6D8140A4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58E8-12A9-42CE-9BFB-732F23A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AAB-45A0-4485-AED1-06450DE5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11DF-DE3E-4D43-B7B1-605B08E4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DA43-E763-4379-89E8-EFD35E40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25AE6-9EA3-407D-8452-98EC423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2964-B900-48C8-963B-0C24F1D8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B942-0F78-4C65-B09A-138B47B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428A-09D5-45EB-9929-B6E33DB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44EB-AA73-4E00-802F-AE8BDEAE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54C5-AAD5-484F-AFA6-C3A83B0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D77C-FF30-4F6B-BECB-2E34F4F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9AC3-584C-47A0-ADD2-FC812EEA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9F5-D859-42AF-84F2-4516511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8A6D-91A3-4C2D-91C2-902BDB3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409C-81E5-48BE-B88C-2000A71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6AB44-A7C7-4178-92CB-2FB70EF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3A92-33DE-492D-875D-EEDEE32A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1772-9F09-45E7-A91E-B0F8C983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3595-051F-4298-984B-2EA9784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16A3-D76D-4A4D-B566-5FC7F67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BAD5-AFCE-41EB-B9E2-2868F6B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9E53-781E-437F-9404-3F49952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2B75-3256-44DE-AFEA-7241D1B0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F11-6CE9-4E7A-A46A-BDD0034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C06F-23CD-41C9-AECF-4F0A3A22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C97-0BF1-41CC-B926-49FF0FF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6D5-4068-4F50-B967-21C713A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2D4-B920-459A-8CDF-9056E4F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EFCC-44DE-4903-987E-2DB249308F9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31F8-A8D4-41B4-B56B-D2378A84BD0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300-C5BB-4C37-8298-951687EF193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1A5-4055-460E-98ED-3CDCF9CB1DE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3D5B-0882-4F33-8E58-4251DF8742B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767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Yesmena Buzeriba -Jessica Deleon- Gabbi Chesels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785000" cy="92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 rot="21414600">
            <a:off x="144000" y="1069920"/>
            <a:ext cx="7917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78000" y="212760"/>
            <a:ext cx="7248240" cy="725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 rot="21406200">
            <a:off x="150840" y="1082160"/>
            <a:ext cx="770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378000" y="285840"/>
            <a:ext cx="7248240" cy="725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 rot="21400800">
            <a:off x="428760" y="1215720"/>
            <a:ext cx="73152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 rot="21312000">
            <a:off x="617400" y="479160"/>
            <a:ext cx="7096320" cy="6100560"/>
          </a:xfrm>
          <a:prstGeom prst="rect">
            <a:avLst/>
          </a:prstGeom>
          <a:ln w="0">
            <a:noFill/>
          </a:ln>
        </p:spPr>
      </p:pic>
      <p:pic>
        <p:nvPicPr>
          <p:cNvPr id="229" name="Title 1" descr=""/>
          <p:cNvPicPr/>
          <p:nvPr/>
        </p:nvPicPr>
        <p:blipFill>
          <a:blip r:embed="rId2"/>
          <a:stretch/>
        </p:blipFill>
        <p:spPr>
          <a:xfrm>
            <a:off x="7736040" y="1407960"/>
            <a:ext cx="34740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7613640" y="1195560"/>
            <a:ext cx="92160" cy="272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 rot="21354600">
            <a:off x="303120" y="343080"/>
            <a:ext cx="8296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42:27Z</dcterms:created>
  <dc:creator>Student</dc:creator>
  <dc:description/>
  <dc:language>en-US</dc:language>
  <cp:lastModifiedBy>Student</cp:lastModifiedBy>
  <dcterms:modified xsi:type="dcterms:W3CDTF">2011-03-28T01:56:59Z</dcterms:modified>
  <cp:revision>1</cp:revision>
  <dc:subject/>
  <dc:title>Commerce</dc:title>
</cp:coreProperties>
</file>